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A73-4CB0-4D6D-B4A6-964C05EB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FBF-EC05-45AC-8D3A-C3138100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82B-3B4A-4E97-AE8A-4C25CD8C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E1B-15CB-459F-83A9-D75D20AC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F322-3584-451A-9E18-ABBDA4B1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24C5-E2B5-450B-ADCC-8FBA628D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E70-BFD5-4085-BE59-8F64E53B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2BE9-4C09-4D24-A125-2E3E234C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05BA-CD9F-4A8A-8C39-1CA6078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5B37-EC53-42FE-BF2E-2CE47374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24A4-F511-4FAD-94E3-00E1A77E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E3D-6018-47EA-82E7-4CA15B91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DD5F-D372-45D8-B83B-918DBA54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A5A1-9BD4-48BE-85B4-DF51261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1F67-416D-46E6-8205-122163AD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703E-4110-40C5-ABFF-BAF86C92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2835-915D-4CCB-89F3-D0D9E009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50B-AF0B-4A43-A77D-E5E6F8A5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CA1-0734-4C7D-98C6-91057AF4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A07-4E18-4295-8C3E-B44A52D7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C4B-3FA7-4D4D-85AB-1A287D2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F9E-F970-4A14-A4EB-9D94DC64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017-B957-431A-8AAD-F84D9B01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E12-A244-493C-ACC8-5E4A2C7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CE0E-B027-4631-A86D-EFA8FCBCB4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A82D-AE5C-46F5-B3B8-98726937131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9" name="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42Z</dcterms:modified>
  <cp:revision>13</cp:revision>
  <dc:subject/>
  <dc:title>幻灯片 1</dc:title>
</cp:coreProperties>
</file>